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01A-331D-4937-869F-F240D229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48A-80CC-4CC8-8C86-B5B5CAA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D86-27F9-4629-A332-A48536A1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65A-D733-4667-955C-D96B8261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8D0-C76F-4142-BE61-F031E2BC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802-C800-4D01-816A-91094723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F6D-E887-4DCF-AC44-8300C99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D04-6F7D-49FF-803D-1571A132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3D6-5573-4D15-9AE3-261FFDD1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A02-8434-4B5D-8C01-1C51F482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A40-6B50-4A73-A73B-79B73E36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D88-49DD-4E99-95CD-91AED74B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1F45-2B43-4B98-AAFE-4061B4F5D5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251080" y="1971720"/>
            <a:ext cx="4892760" cy="321768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2266920" y="1052640"/>
            <a:ext cx="4950000" cy="89064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90000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539640" y="1125360"/>
            <a:ext cx="806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下意识弯腰又翻裤兜的时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一个男孩子的目光相撞。他穿着一身工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站在我旁边的柜台的角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头才到我的肩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瘦小得像棵豆芽菜。我发现他的眼里流露出犹豫的神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抿着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冲我似笑非笑的样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些怪怪的。而他的一只手揣在裤袋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回动了几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似掏未掏的样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像那里藏着刺猬一样什么扎手的东西。这更让我感到奇怪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5"/>
          <p:cNvSpPr/>
          <p:nvPr/>
        </p:nvSpPr>
        <p:spPr>
          <a:xfrm>
            <a:off x="2124000" y="2421000"/>
            <a:ext cx="612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6"/>
          <p:cNvSpPr/>
          <p:nvPr/>
        </p:nvSpPr>
        <p:spPr>
          <a:xfrm>
            <a:off x="684360" y="4365720"/>
            <a:ext cx="763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7"/>
          <p:cNvSpPr/>
          <p:nvPr/>
        </p:nvSpPr>
        <p:spPr>
          <a:xfrm>
            <a:off x="684360" y="3789360"/>
            <a:ext cx="748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8"/>
          <p:cNvSpPr/>
          <p:nvPr/>
        </p:nvSpPr>
        <p:spPr>
          <a:xfrm>
            <a:off x="684360" y="3141720"/>
            <a:ext cx="770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2"/>
          <p:cNvSpPr/>
          <p:nvPr/>
        </p:nvSpPr>
        <p:spPr>
          <a:xfrm>
            <a:off x="755640" y="501336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3"/>
          <p:cNvSpPr/>
          <p:nvPr/>
        </p:nvSpPr>
        <p:spPr>
          <a:xfrm>
            <a:off x="684360" y="566100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"/>
          <p:cNvSpPr/>
          <p:nvPr/>
        </p:nvSpPr>
        <p:spPr>
          <a:xfrm>
            <a:off x="179280" y="1363320"/>
            <a:ext cx="5378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裤袋也翻遍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实找不出两角钱。我只好把那张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元的票子又递了上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员还是没有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了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再找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角钱还没有呀。可我确实没有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有些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她差点没吵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这时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衣角被轻轻拉了一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头一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那个男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看见他的手从裤袋里掏了出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心里攥着两角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这里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角钱。”说完这句外乡口音很重的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羞涩地脸红了。原来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他一直想帮助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是有些犹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怕我拒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是怕两角钱有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太不值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接过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些皱巴巴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带有他手心的温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只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角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还是谢了他。他微微一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是脸更红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是一个可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孩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寄完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去附近的超市买东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破开了那一百元的票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足够的零钱。我又回到邮局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时已是落日的黄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孩子还在不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想如果那个孩子还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该把钱还给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1757160" y="1215720"/>
            <a:ext cx="5769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还真的在那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站在柜台的角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些民工还没有汇完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是在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大人们一起回去。我向他走了过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看见了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冲我笑了笑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有了那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成了熟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笑容让我感到一种天真的亲切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干净透明的那种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走到他的身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打消了还那两角钱的念头。我不知道这样做对不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到他那样的笑容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觉得他是在为自己做了一件帮助人的好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会这样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。能够帮助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且是举手之劳的事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尤其是帮助了一个看起来比自己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许多的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里总会产生一种美好的感觉吧。我当时就这样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干吗要打破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这样美好的感觉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句谢谢比归还两角钱也许更重要吧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轻轻地抚摸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他的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了问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没有走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再次郑重地向他说了声“谢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脸上再次绽放出笑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以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多次去过那家邮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也没有见过那个孩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我怎么也忘不了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让我时时提醒自己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对一些举手之劳的事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够伸出手来去帮助他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要伸出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763960" y="5590080"/>
            <a:ext cx="14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自《北京晚报》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删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3126240" y="11980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自己的话简要概括文章的主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395280" y="1700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”在邮局遇到两角钱的难题时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个男孩子主动帮助了“我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令“我”感动难忘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意相同即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148920" y="263988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试从人物描写的角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态描写、动作描写、外貌描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两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文中画线句子进行具体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611280" y="342900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(1)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他穿着一身工装……个头才到我的肩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瘦小得像棵豆芽菜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通过外貌描写点明男孩子生活的艰辛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更好地表现他内心的善良。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他的眼里流露出犹豫的神色……冲我似笑非笑的样子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通过神态描写表现出男孩子既想帮助“我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又怕被“我”拒绝的矛盾心理。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3)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他的一只手揣在裤袋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来回动了几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似掏未掏的样子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通过动作描写表现男孩子此刻的矛盾心理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任选其中两种进行分析即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2007360" y="983880"/>
            <a:ext cx="56818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具体语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“他的笑容让我感到一种天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切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干净透明的那种感觉”中“干净透明”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539640" y="242100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干净透明”是指男孩子内心纯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待人真挚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意相同即可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95280" y="3581280"/>
            <a:ext cx="8693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”原想把钱还给男孩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又打消了还那两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钱的念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为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468360" y="4869000"/>
            <a:ext cx="849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男孩子在帮助了“我”之后非常开心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”不愿意打破他这种美好的感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2056680" y="1027800"/>
            <a:ext cx="53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中最后写到男孩子的脸上“再次绽放出笑容”。请写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孩子此刻的心理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孩子帮助“我”的仅仅是两角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结合全文谈谈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怎么也忘不了他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186640" y="2364480"/>
            <a:ext cx="497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帮助别人并得到别人的肯定与尊重是快乐和自豪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男孩子在“我”最需要帮助的时候帮助了“我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男孩子乐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助人的纯洁心灵打动了“我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男孩子的举动提醒“我”面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些举手之劳的事情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要伸手帮助他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1675080" y="1115640"/>
            <a:ext cx="5679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歌　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①梅林坳的路是难行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肩上的负荷渐渐地沉重起来。我们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在艰难的道路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②那正遭受着残酷践踏的土地——九龙新界的远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依稀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那迷蒙的烟雾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那模糊的远山的阴影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像一只在荒野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抖着的受伤的野兽。人们不都是刚从那死亡线上逃脱出来的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③站在山道上回过头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久经荒芜的田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成了瓦砾的村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旧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砍伐的树木残根……还清晰地显露在人们的眼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都铭刻着这土地的被蹂躏、被残害的过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108000" y="902160"/>
            <a:ext cx="9310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仰望山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是多么悠长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越过这山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越过这难行的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就是自由的天地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着这希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确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也不会发出一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怨叹。曾经走到绝望边缘上的人是不会屈服于艰苦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⑤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刻钟以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是还在敌人武器的控制之下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现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竟然平安地转上了通向自己人的土地的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脱了野兽的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踪。谁还会顾虑到道路的艰难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我们到达山顶的时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是多么高兴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北望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片丰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田地展开在山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然已是残冬的季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些成熟了的麦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些将近开花的蔬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得多么诱人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在那方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寄托着我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渴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漫漫长路的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24000" y="1361880"/>
            <a:ext cx="890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风轻拂着我们发红的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阳光从云隙里伸展下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暖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如一条金色的被子。多么明朗的天气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多久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在这样明朗的天空下呼吸过了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十天以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我们的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忆中似乎搜寻不出一个明朗的天气。那些日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空总是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阴沉。战烟和阴雾混合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低地压了下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得人喘不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气。那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曾经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香港的天气难道向来是这样的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么一向不曾发觉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终于摆脱了那窒闷的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气的压迫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又能轻快地呼吸清新的空气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过了十几分钟的休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天行旅的疲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似乎很快地洗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又精神饱满地开始了未尽的旅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坡路特别的好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们的脚步都轻松了起来。有人轻轻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唱起歌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5"/>
          <p:cNvSpPr/>
          <p:nvPr/>
        </p:nvSpPr>
        <p:spPr>
          <a:xfrm>
            <a:off x="468360" y="98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⑩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愿做奴隶的人们……”这歌是太熟悉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大容易在人们的心里唤起感动。可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同样的歌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多么的叫人感动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468360" y="256536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十多年以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不曾听到过这歌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还敢唱这首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侵略者不是正在窥视着每一个“不愿做奴隶的人们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企图以一声歌唱或一句话来屠杀罪犯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还清楚地记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圣诞节次日的那个恐怖的早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邻家的三岁的孩子曾经为着唱了一句“起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愿做奴隶的人们”而遭到她母亲一顿打。当她母亲变了脸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手捂住她嘴的时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挣扎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着哭腔地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什么不许唱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7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351000" cy="28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zpj.jpg" descr=""/>
          <p:cNvPicPr/>
          <p:nvPr/>
        </p:nvPicPr>
        <p:blipFill>
          <a:blip r:embed="rId1"/>
          <a:stretch/>
        </p:blipFill>
        <p:spPr>
          <a:xfrm>
            <a:off x="2482920" y="115920"/>
            <a:ext cx="4897440" cy="936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1460160" y="1106280"/>
            <a:ext cx="56930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字的注音全对的一项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绕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悠闲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iō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不可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ruǐ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舀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横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hènɡ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溃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ku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鞠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ū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      奇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684360" y="508464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A.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绕”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,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悠”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ōu;B.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锐”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ruì;C.“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横”读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én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7105680" y="184464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2"/>
          <p:cNvSpPr/>
          <p:nvPr/>
        </p:nvSpPr>
        <p:spPr>
          <a:xfrm>
            <a:off x="4932360" y="494172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3"/>
          <p:cNvSpPr/>
          <p:nvPr/>
        </p:nvSpPr>
        <p:spPr>
          <a:xfrm>
            <a:off x="4932360" y="4292640"/>
            <a:ext cx="14436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4"/>
          <p:cNvSpPr/>
          <p:nvPr/>
        </p:nvSpPr>
        <p:spPr>
          <a:xfrm>
            <a:off x="4859280" y="364500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5"/>
          <p:cNvSpPr/>
          <p:nvPr/>
        </p:nvSpPr>
        <p:spPr>
          <a:xfrm>
            <a:off x="4859280" y="299736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6"/>
          <p:cNvSpPr/>
          <p:nvPr/>
        </p:nvSpPr>
        <p:spPr>
          <a:xfrm>
            <a:off x="1547640" y="2997360"/>
            <a:ext cx="144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7"/>
          <p:cNvSpPr/>
          <p:nvPr/>
        </p:nvSpPr>
        <p:spPr>
          <a:xfrm>
            <a:off x="1187280" y="3645000"/>
            <a:ext cx="144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8"/>
          <p:cNvSpPr/>
          <p:nvPr/>
        </p:nvSpPr>
        <p:spPr>
          <a:xfrm>
            <a:off x="1187280" y="4292640"/>
            <a:ext cx="14472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9"/>
          <p:cNvSpPr/>
          <p:nvPr/>
        </p:nvSpPr>
        <p:spPr>
          <a:xfrm>
            <a:off x="1187280" y="4869000"/>
            <a:ext cx="14472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对角圆角矩形 20"/>
          <p:cNvSpPr/>
          <p:nvPr/>
        </p:nvSpPr>
        <p:spPr>
          <a:xfrm>
            <a:off x="468360" y="5084640"/>
            <a:ext cx="7991280" cy="936720"/>
          </a:xfrm>
          <a:custGeom>
            <a:avLst/>
            <a:gdLst/>
            <a:ahLst/>
            <a:rect l="l" t="t" r="r" b="b"/>
            <a:pathLst>
              <a:path w="7992888" h="936104">
                <a:moveTo>
                  <a:pt x="156020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780083"/>
                </a:lnTo>
                <a:cubicBezTo>
                  <a:pt x="7992888" y="866250"/>
                  <a:pt x="7923035" y="936103"/>
                  <a:pt x="7836868" y="936103"/>
                </a:cubicBezTo>
                <a:lnTo>
                  <a:pt x="0" y="936104"/>
                </a:lnTo>
                <a:lnTo>
                  <a:pt x="0" y="936104"/>
                </a:lnTo>
                <a:lnTo>
                  <a:pt x="0" y="156020"/>
                </a:lnTo>
                <a:cubicBezTo>
                  <a:pt x="0" y="69853"/>
                  <a:pt x="69853" y="0"/>
                  <a:pt x="15602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zpj.jpg" descr="id:2147500549;FounderCES"/>
          <p:cNvPicPr/>
          <p:nvPr/>
        </p:nvPicPr>
        <p:blipFill>
          <a:blip r:embed="rId1"/>
          <a:stretch/>
        </p:blipFill>
        <p:spPr>
          <a:xfrm>
            <a:off x="2556000" y="0"/>
            <a:ext cx="4895640" cy="936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"/>
          <p:cNvSpPr/>
          <p:nvPr/>
        </p:nvSpPr>
        <p:spPr>
          <a:xfrm>
            <a:off x="2127600" y="1027800"/>
            <a:ext cx="524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人们也只能含着泪沉默地望着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谁能说唱这歌是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罪的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岁的孩子是不能理解这一夕之间的巨变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理由要抑制这唱歌的欲望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53720" y="2755080"/>
            <a:ext cx="54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“现在”我们又重新听到了这歌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人低声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是第二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人……不自觉地附和起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是这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声的吟哦终于成了壮大的歌声……叫人激动、战栗的歌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120400" y="4444200"/>
            <a:ext cx="540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荷依然是那么沉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路依然是那么崎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却不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到疲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我们终于越过了那生和死的界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踏上了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己人的土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5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424080" cy="3506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" descr=""/>
          <p:cNvPicPr/>
          <p:nvPr/>
        </p:nvPicPr>
        <p:blipFill>
          <a:blip r:embed="rId3"/>
          <a:stretch/>
        </p:blipFill>
        <p:spPr>
          <a:xfrm>
            <a:off x="1042920" y="2924280"/>
            <a:ext cx="351000" cy="3506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360360" cy="4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2336400" y="1270080"/>
            <a:ext cx="42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④段中“自由的天地”在文中是指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963440" y="19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抗战大后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329200" y="2360520"/>
            <a:ext cx="48913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⑦段文字中多次写到“明朗的天气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作者怎样的心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窒闷的空气的压迫”既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指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"/>
          <p:cNvSpPr/>
          <p:nvPr/>
        </p:nvSpPr>
        <p:spPr>
          <a:xfrm>
            <a:off x="2061360" y="443700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向往光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追求自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2056320" y="1566360"/>
            <a:ext cx="56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.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同样的歌声”现在为什么“叫人感动”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全文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段连用“依然”一词的作用是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826920" y="227664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经受被奴役的痛苦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才觉得这歌声的感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530440" y="3436200"/>
            <a:ext cx="4560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呼应开头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突出“踏上了自己人的土地”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获得自由时的欢快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2107800" y="1147320"/>
            <a:ext cx="543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三、写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下面的文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按要求作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的绿水青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今却变成了荒漠戈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谁打破了宁静的世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让战火烧透人类的家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谁抹去了孩童的欢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让泪水淘尽生命的硝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谁偷走了皎洁的月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让烈火烧出地狱般的辉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谁遮住了人类的视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白鸽的羽毛插满秃鹰血腥的身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谁蒙蔽了智慧的认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繁花般的生命如此落英飞洒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史是由一次又一次的战争相连而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的天赋就是进行永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息止的战争。而战争每天都在毁灭生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毁灭财富。没有和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没有人的幸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没有社会的发展和进步。为了能有永久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必须正视战争造成的苦难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考如何制止战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请以“守望和平”为题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写一篇不少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800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字的文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"/>
          <p:cNvSpPr/>
          <p:nvPr/>
        </p:nvSpPr>
        <p:spPr>
          <a:xfrm>
            <a:off x="1917000" y="1006920"/>
            <a:ext cx="568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写作导航】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守望”是写作的关键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守望”本义是“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守瞭望”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但它的内涵非常广泛。长期生活在这个日新月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和平时代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战争与牺牲已逐渐远去。我们有太多的东西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选择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有太多的东西需要坚守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有太多的蓝图需要描绘。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何守望和平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首先是如何面对战争和战争造成的仇恨。其次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、珍惜、感恩、谅解、宽容、沟通、谦让、友善、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等等皆可以消除仇恨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引来和平。第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铭记什么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忘记什么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也是要考虑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  可写成记叙类文章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通过想象虚构战争中人们的命运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来透射战争的罪恶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表达对和平的渴望。精巧的构思、跌宕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情节、虚实的映衬、细节的描写是写作的关键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可写成议论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章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面对长期的和平、安逸的生活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面对世界上依然不断燃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战火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反思战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正视战争的苦难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制止战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何守望和平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都是值得我们认真总结的。充实新鲜的史料素材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积极理性的个性思考是写作的关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2026800" y="1043640"/>
            <a:ext cx="404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没有错别字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栽　赃物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拂晓　富丽唐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丝绒　精彩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尖利　鬼鬼崇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成语运用不正确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解放军英勇善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锐不可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东张皇失措地跑到学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累得上气不接下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已经精疲力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坐在那里休息了好长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一件世界上独一无二的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755640" y="2781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栽—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B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唐—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D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崇—祟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1970280" y="60930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为“急急忙忙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300640" y="1197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521040" y="3429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对角圆角矩形 8"/>
          <p:cNvSpPr/>
          <p:nvPr/>
        </p:nvSpPr>
        <p:spPr>
          <a:xfrm>
            <a:off x="755640" y="2781360"/>
            <a:ext cx="6553080" cy="503280"/>
          </a:xfrm>
          <a:custGeom>
            <a:avLst/>
            <a:gdLst/>
            <a:ahLst/>
            <a:rect l="l" t="t" r="r" b="b"/>
            <a:pathLst>
              <a:path w="6552728" h="504056">
                <a:moveTo>
                  <a:pt x="84011" y="0"/>
                </a:moveTo>
                <a:lnTo>
                  <a:pt x="6552728" y="0"/>
                </a:lnTo>
                <a:lnTo>
                  <a:pt x="6552728" y="0"/>
                </a:lnTo>
                <a:lnTo>
                  <a:pt x="6552728" y="420044"/>
                </a:lnTo>
                <a:cubicBezTo>
                  <a:pt x="6552728" y="466442"/>
                  <a:pt x="6515115" y="504055"/>
                  <a:pt x="6468717" y="504055"/>
                </a:cubicBezTo>
                <a:lnTo>
                  <a:pt x="0" y="504056"/>
                </a:lnTo>
                <a:lnTo>
                  <a:pt x="0" y="504056"/>
                </a:lnTo>
                <a:lnTo>
                  <a:pt x="0" y="84011"/>
                </a:lnTo>
                <a:cubicBezTo>
                  <a:pt x="0" y="37613"/>
                  <a:pt x="37613" y="0"/>
                  <a:pt x="8401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对角圆角矩形 9"/>
          <p:cNvSpPr/>
          <p:nvPr/>
        </p:nvSpPr>
        <p:spPr>
          <a:xfrm>
            <a:off x="755640" y="6093000"/>
            <a:ext cx="6769080" cy="431640"/>
          </a:xfrm>
          <a:custGeom>
            <a:avLst/>
            <a:gdLst/>
            <a:ahLst/>
            <a:rect l="l" t="t" r="r" b="b"/>
            <a:pathLst>
              <a:path w="6768752" h="432048">
                <a:moveTo>
                  <a:pt x="72009" y="0"/>
                </a:moveTo>
                <a:lnTo>
                  <a:pt x="6768752" y="0"/>
                </a:lnTo>
                <a:lnTo>
                  <a:pt x="6768752" y="0"/>
                </a:lnTo>
                <a:lnTo>
                  <a:pt x="6768752" y="360038"/>
                </a:lnTo>
                <a:cubicBezTo>
                  <a:pt x="6768752" y="399807"/>
                  <a:pt x="6736512" y="432047"/>
                  <a:pt x="6696743" y="432047"/>
                </a:cubicBezTo>
                <a:lnTo>
                  <a:pt x="0" y="432048"/>
                </a:lnTo>
                <a:lnTo>
                  <a:pt x="0" y="432048"/>
                </a:ln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0"/>
          <p:cNvSpPr/>
          <p:nvPr/>
        </p:nvSpPr>
        <p:spPr>
          <a:xfrm>
            <a:off x="4932360" y="436572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1"/>
          <p:cNvSpPr/>
          <p:nvPr/>
        </p:nvSpPr>
        <p:spPr>
          <a:xfrm>
            <a:off x="4643280" y="4365720"/>
            <a:ext cx="144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2"/>
          <p:cNvSpPr/>
          <p:nvPr/>
        </p:nvSpPr>
        <p:spPr>
          <a:xfrm>
            <a:off x="4067280" y="436572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3"/>
          <p:cNvSpPr/>
          <p:nvPr/>
        </p:nvSpPr>
        <p:spPr>
          <a:xfrm>
            <a:off x="4356000" y="4365720"/>
            <a:ext cx="1447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4"/>
          <p:cNvSpPr/>
          <p:nvPr/>
        </p:nvSpPr>
        <p:spPr>
          <a:xfrm>
            <a:off x="1692360" y="4869000"/>
            <a:ext cx="14292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5"/>
          <p:cNvSpPr/>
          <p:nvPr/>
        </p:nvSpPr>
        <p:spPr>
          <a:xfrm>
            <a:off x="2050920" y="4869000"/>
            <a:ext cx="14472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6"/>
          <p:cNvSpPr/>
          <p:nvPr/>
        </p:nvSpPr>
        <p:spPr>
          <a:xfrm>
            <a:off x="2627280" y="4869000"/>
            <a:ext cx="14436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7"/>
          <p:cNvSpPr/>
          <p:nvPr/>
        </p:nvSpPr>
        <p:spPr>
          <a:xfrm>
            <a:off x="2340000" y="4869000"/>
            <a:ext cx="14436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8"/>
          <p:cNvSpPr/>
          <p:nvPr/>
        </p:nvSpPr>
        <p:spPr>
          <a:xfrm>
            <a:off x="2916360" y="5445000"/>
            <a:ext cx="1429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9"/>
          <p:cNvSpPr/>
          <p:nvPr/>
        </p:nvSpPr>
        <p:spPr>
          <a:xfrm>
            <a:off x="2627280" y="544500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20"/>
          <p:cNvSpPr/>
          <p:nvPr/>
        </p:nvSpPr>
        <p:spPr>
          <a:xfrm>
            <a:off x="2340000" y="544500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21"/>
          <p:cNvSpPr/>
          <p:nvPr/>
        </p:nvSpPr>
        <p:spPr>
          <a:xfrm>
            <a:off x="2050920" y="5445000"/>
            <a:ext cx="14472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2"/>
          <p:cNvSpPr/>
          <p:nvPr/>
        </p:nvSpPr>
        <p:spPr>
          <a:xfrm>
            <a:off x="3276720" y="5950080"/>
            <a:ext cx="14292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3"/>
          <p:cNvSpPr/>
          <p:nvPr/>
        </p:nvSpPr>
        <p:spPr>
          <a:xfrm>
            <a:off x="3564000" y="595008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24"/>
          <p:cNvSpPr/>
          <p:nvPr/>
        </p:nvSpPr>
        <p:spPr>
          <a:xfrm>
            <a:off x="3851280" y="595008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25"/>
          <p:cNvSpPr/>
          <p:nvPr/>
        </p:nvSpPr>
        <p:spPr>
          <a:xfrm>
            <a:off x="4140360" y="5950080"/>
            <a:ext cx="14436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2544480" y="1075320"/>
            <a:ext cx="382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子没有语病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人民解放军伟大的胜利的进攻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阳守敌弃城南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欢迎志愿军凯旋归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不觉就走了十里左右的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就是我带走的沉重记忆。但这是个美丽的记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句子没有运用比喻手法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鲜嫩的芦花像一片展开的紫色的丝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亲眺望的目光是一根无形的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牵扯着远方游子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的目光好像温柔了许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朵盛开的花像一个个小小的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468360" y="306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.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进攻”应为“攻势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B.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凯旋”和“归来”重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C.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删“的距离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对角圆角矩形 4"/>
          <p:cNvSpPr/>
          <p:nvPr/>
        </p:nvSpPr>
        <p:spPr>
          <a:xfrm>
            <a:off x="468360" y="2997360"/>
            <a:ext cx="7775640" cy="1008000"/>
          </a:xfrm>
          <a:custGeom>
            <a:avLst/>
            <a:gdLst/>
            <a:ahLst/>
            <a:rect l="l" t="t" r="r" b="b"/>
            <a:pathLst>
              <a:path w="7776864" h="1008112">
                <a:moveTo>
                  <a:pt x="168022" y="0"/>
                </a:moveTo>
                <a:lnTo>
                  <a:pt x="7776864" y="0"/>
                </a:lnTo>
                <a:lnTo>
                  <a:pt x="7776864" y="0"/>
                </a:lnTo>
                <a:lnTo>
                  <a:pt x="7776864" y="840089"/>
                </a:lnTo>
                <a:cubicBezTo>
                  <a:pt x="7776864" y="932885"/>
                  <a:pt x="7701638" y="1008111"/>
                  <a:pt x="7608842" y="1008111"/>
                </a:cubicBezTo>
                <a:lnTo>
                  <a:pt x="0" y="1008112"/>
                </a:lnTo>
                <a:lnTo>
                  <a:pt x="0" y="1008112"/>
                </a:lnTo>
                <a:lnTo>
                  <a:pt x="0" y="168022"/>
                </a:lnTo>
                <a:cubicBezTo>
                  <a:pt x="0" y="75226"/>
                  <a:pt x="75226" y="0"/>
                  <a:pt x="16802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446800" y="10526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591240" y="40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zpj.jpg" descr="id:2147500549;FounderCES"/>
          <p:cNvPicPr/>
          <p:nvPr/>
        </p:nvPicPr>
        <p:blipFill>
          <a:blip r:embed="rId1"/>
          <a:stretch/>
        </p:blipFill>
        <p:spPr>
          <a:xfrm>
            <a:off x="2411280" y="0"/>
            <a:ext cx="4897440" cy="936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1766880" y="1001520"/>
            <a:ext cx="559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判断正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的打“   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的打“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语是新闻开头的第一段或第一句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扼要地揭示新闻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内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体是新闻的躯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对导语内容的进一步扩展和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指的是新闻发生的社会环境和自然环境。背景必须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成段。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芦花荡》的作者是孙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所叙述的干瘦的“老头子”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勇作战的故事发生在解放战争时期的白洋淀。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蜡烛》写的是一位南斯拉夫母亲将珍藏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两支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婚花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在一位苏联红军士兵的坟头上的故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展现了反法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斯阵营的军民用血肉凝成的情谊。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雨果是英国作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愤怒地谴责了英法联军远征中国的罪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了对被侵略、被掠夺者的巨大同情。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39528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背景可以暗含在主体中。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为“抗日战争”。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4)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为“法国作家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2556000" y="24210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7566120" y="3141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6917760" y="4941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14244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022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对角圆角矩形 10"/>
          <p:cNvSpPr/>
          <p:nvPr/>
        </p:nvSpPr>
        <p:spPr>
          <a:xfrm>
            <a:off x="395280" y="5516640"/>
            <a:ext cx="7345440" cy="936720"/>
          </a:xfrm>
          <a:custGeom>
            <a:avLst/>
            <a:gdLst/>
            <a:ahLst/>
            <a:rect l="l" t="t" r="r" b="b"/>
            <a:pathLst>
              <a:path w="7344816" h="936104">
                <a:moveTo>
                  <a:pt x="156020" y="0"/>
                </a:moveTo>
                <a:lnTo>
                  <a:pt x="7344816" y="0"/>
                </a:lnTo>
                <a:lnTo>
                  <a:pt x="7344816" y="0"/>
                </a:lnTo>
                <a:lnTo>
                  <a:pt x="7344816" y="780083"/>
                </a:lnTo>
                <a:cubicBezTo>
                  <a:pt x="7344816" y="866250"/>
                  <a:pt x="7274963" y="936103"/>
                  <a:pt x="7188796" y="936103"/>
                </a:cubicBezTo>
                <a:lnTo>
                  <a:pt x="0" y="936104"/>
                </a:lnTo>
                <a:lnTo>
                  <a:pt x="0" y="936104"/>
                </a:lnTo>
                <a:lnTo>
                  <a:pt x="0" y="156020"/>
                </a:lnTo>
                <a:cubicBezTo>
                  <a:pt x="0" y="69853"/>
                  <a:pt x="69853" y="0"/>
                  <a:pt x="15602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1777320" y="1040760"/>
            <a:ext cx="56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实践活动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为纪念世界反法西斯战争胜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凤凰中学九年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将开展一次以“世界何时铸剑为犁”为主题的综合性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参与准备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妙解汉字】“武”字与战争密切相关。许慎在《说文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》中把“武”解释为“止戈为武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解释反映了古人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和平幸福生活的情感。“伐”字也与战争有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推断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字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"/>
          <p:cNvSpPr/>
          <p:nvPr/>
        </p:nvSpPr>
        <p:spPr>
          <a:xfrm>
            <a:off x="2472480" y="50133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砍杀、攻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3080880" y="1139760"/>
            <a:ext cx="33184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品味文化】伴随着战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成了丰富的战争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。请写一句相对完整的与战争有关的古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并列举一部课外阅读过的以战争为题材的小说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场战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755640" y="364500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词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王昌龄《出塞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秦时明月汉时关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里长征人未还。但使龙城飞将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教胡马度阴山。小说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战争风云》《亮剑》。战役示例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辽沈战役、淮海战役、平津战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3459600" y="1027080"/>
            <a:ext cx="1187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要点概括】阅读下面的这则新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然后概括其主要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c1.jpg" descr="id:2147500556;FounderCES"/>
          <p:cNvPicPr/>
          <p:nvPr/>
        </p:nvPicPr>
        <p:blipFill>
          <a:blip r:embed="rId2"/>
          <a:stretch/>
        </p:blipFill>
        <p:spPr>
          <a:xfrm>
            <a:off x="5580000" y="1773360"/>
            <a:ext cx="3168720" cy="1995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2217240" y="1576080"/>
            <a:ext cx="5252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网纽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电　国家主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近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在纽约出席中国向联合国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平尊”仪式。联合国秘书长潘基文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习近平在仪式上发表讲话指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纪念联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成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政府决定向联合国赠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座“和平尊”。“和平尊”以中国古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青铜器中的“尊”为原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中国对联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的重视和支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多中国人民对联合国的美好祝福。“和平尊”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展示了中华民族的悠久历史和当代文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体现了不同文明和文化的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鉴、兼容并蓄、共同进步。“和平尊”传递了中国和中国人民求和平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谋发展、促合作、图共赢的愿望和信念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也是联合国宪章的精神。在联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迈向新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之际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愿同世界各国一道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为实现联合国的梦想而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努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997280" y="5879160"/>
            <a:ext cx="441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习近平出席中国向联合国赠送“和平尊”仪式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达中国人民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待和平和幸福的美好愿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zpj.jpg" descr="id:2147500549;FounderCES"/>
          <p:cNvPicPr/>
          <p:nvPr/>
        </p:nvPicPr>
        <p:blipFill>
          <a:blip r:embed="rId1"/>
          <a:stretch/>
        </p:blipFill>
        <p:spPr>
          <a:xfrm>
            <a:off x="2484360" y="115920"/>
            <a:ext cx="4896000" cy="93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1544400" y="1007280"/>
            <a:ext cx="5988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二、阅读理解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小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 角 钱　　肖复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　  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江西中考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有时只是举手之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能帮助别人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我们对好多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之劳的事情却总是熟视无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不愿意伸出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那天下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去邮局寄信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很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多是在附近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干活的民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想到这是他们发工资的日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往远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里之外的家里寄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我寄了一摞子信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算邮费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掏光了衣袋里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的零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差两角钱。我只好掏出一张一百元的票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柜台里的女服务员找。她没有伸手接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望了望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面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大好看。为了两角钱要找一百元的零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确实够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怪她不大乐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